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406-9095-44D4-B269-27B6F63C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5D4-C349-4669-805A-A78D54A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90E-AFDC-4694-96CE-C0188A5B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2E5-C6A4-48A4-A326-9FA98457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22CB-DE08-4518-A985-852A73B0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553-28DB-49EE-8817-33C7E388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5AB-0539-49F2-A31E-E5792DEE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C077-CC6B-4E3E-80D9-067A54C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EDB-647F-4A11-99DC-C5F102F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D76-BBBB-4E8C-A2C6-F0D088B6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C49-C333-4BE1-9763-7237B16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667-C291-4071-BC79-B0525A04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1EF0-704E-4435-83A2-AB6A369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3F03-3F2C-4B10-ADDB-8D2C622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2CE-4A18-45DB-A4B1-0AA7B18C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AA5E-F5BC-4A22-BA1D-5ABD90B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FCA4-B9C8-4951-A09C-3E24AEE7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82F-C5A3-4677-B223-C1C762E8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914-3DA9-40B3-A573-2854D98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E1E-7E6F-48F0-85D6-373F116D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280-39AC-4B99-9E46-62167411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36A-BE16-4A1E-A7A1-9A56591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01A-D9FD-4B67-A494-D5F5EE7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237-5E82-4475-8EFB-CE78DDB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133-C179-40FD-A935-30BCE0FF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E215-1705-44ED-9C6F-CFCEC451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6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2209680"/>
          <a:ext cx="7772400" cy="4038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armers and others who have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long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mbers of producer organizations and community based organizations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that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133720"/>
          <a:ext cx="7772400" cy="41907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52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new technologies or management practices in one of the following phases of develop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s of Policies/Regulations/Administrative Procedures in each of the following stages of development…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ed and presented for public/stakeholder consul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d for legislation/dec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/ap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for which implementation has beg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ublic-private partnerships form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438280"/>
          <a:ext cx="7772400" cy="373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rural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vulnerable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ctares under improved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keholders implementing risk-reducing practices/actions to improve resilience to climate chang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incremental sal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per unit of land, kilogram, or animal of selecte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new private sector investment in the agriculture sector or food chai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 satisfaction with quantity, quality and timeliness of extension and input supply servic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5"/>
          <p:cNvSpPr/>
          <p:nvPr/>
        </p:nvSpPr>
        <p:spPr>
          <a:xfrm>
            <a:off x="685800" y="5867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Custom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4T09:06:33Z</dcterms:modified>
  <cp:revision>151</cp:revision>
  <dc:subject/>
  <dc:title>PowerPoint Presentation</dc:title>
</cp:coreProperties>
</file>